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556-2181-4F26-9077-689D4865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9DE-E078-45F1-BB39-5E71DA11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45C-D26B-44BA-94DD-DAFC4EE6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01B-DA9D-44F2-B381-B287506A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192-A653-4061-9633-BAC042F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6D5-7600-4C2B-9683-163AD1D4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E08-8EB8-4F0F-851D-3C5DC3F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F5F-9087-4DC1-BAD5-57B01A4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0EE-AE58-470B-873B-0CB0BA4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3A2-B21D-49FF-A225-592DF7E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FAC-4C1E-40E8-8E3B-7D42853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F99-331A-4735-94B5-3B4B32C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AFEB-09C5-4BEA-A50B-29474AD68C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Please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team name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t keepers and Field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760" y="1143000"/>
          <a:ext cx="9120240" cy="5759280"/>
        </p:xfrm>
        <a:graphic>
          <a:graphicData uri="http://schemas.openxmlformats.org/drawingml/2006/table">
            <a:tbl>
              <a:tblPr/>
              <a:tblGrid>
                <a:gridCol w="3043440"/>
                <a:gridCol w="1984320"/>
                <a:gridCol w="1050840"/>
                <a:gridCol w="304164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ictorial handouts --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/ Ra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-Dr.Deo/Dr.Bhatna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for sket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hoto storie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5 s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 /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MK- Navneet/ Raje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-comm; Translator-Hi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lk song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6) (each song 5-10 min dur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MK- Rajeev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9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artists/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record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cal demonstrations – with progressive goatkeepers  (5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KD- Raje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– Rathod,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chnical guidelines /Training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dify existing material – user friend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Deo/ Nikhi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Dr.Bhatnagar (AH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 of baseline findings-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Reports –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 page Fact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7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1071720"/>
          <a:ext cx="8372520" cy="5286240"/>
        </p:xfrm>
        <a:graphic>
          <a:graphicData uri="http://schemas.openxmlformats.org/drawingml/2006/table">
            <a:tbl>
              <a:tblPr/>
              <a:tblGrid>
                <a:gridCol w="3160800"/>
                <a:gridCol w="1098360"/>
                <a:gridCol w="952560"/>
                <a:gridCol w="316080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arket information bulleti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 organizing goat fa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9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, Dr. 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ther organ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760" y="1071720"/>
          <a:ext cx="8358120" cy="5064120"/>
        </p:xfrm>
        <a:graphic>
          <a:graphicData uri="http://schemas.openxmlformats.org/drawingml/2006/table">
            <a:tbl>
              <a:tblPr/>
              <a:tblGrid>
                <a:gridCol w="3155760"/>
                <a:gridCol w="1096920"/>
                <a:gridCol w="949320"/>
                <a:gridCol w="315612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flet- IMGoats projec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indi trans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hi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7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lation-Hindi; ILRI-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flet – IP proc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nglish/ Hin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l/Nikhilesh, Translation; ILRI-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 –Share experiences with local partn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ek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researc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8760" y="1214280"/>
          <a:ext cx="8215200" cy="5199120"/>
        </p:xfrm>
        <a:graphic>
          <a:graphicData uri="http://schemas.openxmlformats.org/drawingml/2006/table">
            <a:tbl>
              <a:tblPr/>
              <a:tblGrid>
                <a:gridCol w="3101760"/>
                <a:gridCol w="1077840"/>
                <a:gridCol w="933480"/>
                <a:gridCol w="310212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P process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 team/ IL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brief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 analysis –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Consul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 paper  -- learning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icrisat</cp:lastModifiedBy>
  <dcterms:modified xsi:type="dcterms:W3CDTF">2012-07-06T07:33:06Z</dcterms:modified>
  <cp:revision>28</cp:revision>
  <dc:subject/>
  <dc:title>IM Goats action plan July 2012</dc:title>
</cp:coreProperties>
</file>